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61267"/>
        <c:axId val="27233789"/>
      </c:barChart>
      <c:catAx>
        <c:axId val="15861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3789"/>
        <c:crosses val="autoZero"/>
        <c:auto val="1"/>
        <c:lblAlgn val="ctr"/>
        <c:lblOffset val="100"/>
        <c:noMultiLvlLbl val="0"/>
      </c:catAx>
      <c:valAx>
        <c:axId val="27233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61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CE5-4F78-426C-82E2-13618CD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32B-BCC9-4A7D-A692-4AEF2C79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CCE-99A8-4A0A-8BE6-C41244EF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1DE-4A0D-4FE2-AD44-2C3E05A6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81E-66F4-4F78-9DFD-389178A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08B-66C5-4010-9F07-E72019BC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E17-0918-46C0-BC97-E27491C2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0CB-ECA1-4C50-BDDB-B82402CE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A3D-2EFE-417B-B9F8-2E3C0B3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267-7755-4E6C-A114-D14EF2B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2C8-3BA2-47DB-B4B4-89473A7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D24-46D7-4CAB-9598-60C00D77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4E85-32B0-4B66-95A5-920302882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