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964086"/>
        <c:axId val="74631787"/>
      </c:barChart>
      <c:catAx>
        <c:axId val="50964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31787"/>
        <c:crosses val="autoZero"/>
        <c:auto val="1"/>
        <c:lblAlgn val="ctr"/>
        <c:lblOffset val="100"/>
        <c:noMultiLvlLbl val="0"/>
      </c:catAx>
      <c:valAx>
        <c:axId val="74631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964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AAD1-F3B9-40BA-8AB4-0479798C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D0F-1111-471F-B60B-CCE432B5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4826-9224-4434-B22B-6F3C9B04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3227-55A2-40F1-BE19-D391D5D5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7022-F972-40C1-BE3B-5D0D91AD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335-1EDE-4599-ACBD-F8675A99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84BA-2244-48AD-80FC-0F92AB0C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C104-AE48-42A5-BAE6-CA668443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5B8-FA26-4B00-BD12-CE7FD926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8CF-27F4-45C5-9EF9-8452C44B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A2A-AEE8-408D-8F11-021502B2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5C40-DA93-4C25-8857-9E2C7D58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868D7-6E15-4AFD-8CBE-3CA03EC6D8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