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12832"/>
        <c:axId val="73783666"/>
      </c:barChart>
      <c:catAx>
        <c:axId val="36612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3666"/>
        <c:crosses val="autoZero"/>
        <c:auto val="1"/>
        <c:lblAlgn val="ctr"/>
        <c:lblOffset val="100"/>
        <c:noMultiLvlLbl val="0"/>
      </c:catAx>
      <c:valAx>
        <c:axId val="73783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2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703-E1E7-4370-9EE7-538189E5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61E-0A66-4F9E-9763-86A4DF9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4A8-E23F-4939-A0DD-C6E1F9A5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6A8-7B9A-4364-904E-3F915231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59B-C869-4C07-AA14-8FA906D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E8E-D5E0-4EE6-9CAF-7E6C9822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7EE-FC91-4507-908B-6ABD9472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DEA-31E4-4BFD-BB54-5AE80F64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2D6-C47C-4DEB-9336-BE68A4D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550-2365-4A7A-ABA7-B3F6A14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09B-AD37-4BD8-9F7F-13D3337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3D2-D9A4-44A0-8D7B-A419962D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2DBB-8A97-4E5E-9FE3-A825A8388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