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91687"/>
        <c:axId val="54642672"/>
      </c:barChart>
      <c:catAx>
        <c:axId val="53916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642672"/>
        <c:crosses val="autoZero"/>
        <c:auto val="1"/>
        <c:lblAlgn val="ctr"/>
        <c:lblOffset val="100"/>
        <c:noMultiLvlLbl val="0"/>
      </c:catAx>
      <c:valAx>
        <c:axId val="546426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916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E90E-FAC6-4A4A-B3F8-D8279E422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68B1-5AA8-4EDA-A80A-A4077B7C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DB03-7545-4909-BD92-2FB181BB4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99D3-19DC-4409-880C-D979EF01C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D9ED-79A6-450B-87FF-EE5CFCAA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E4FC-1FD3-42EE-9D48-0996E3DD9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E293-1CC4-412A-8E86-27E2640F1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A7DD-16AB-4E77-88AC-D1C104ACD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9A16-AE16-4201-B235-0EEF2D257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6939-3F4A-428F-9127-808EFCA5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26E5-D93E-4C21-8283-F7292996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CEF1-CAFA-4DCB-804B-0A563E12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A43E0D-1457-461B-A81F-8E911E0D84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