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82383"/>
        <c:axId val="83741677"/>
      </c:barChart>
      <c:catAx>
        <c:axId val="110823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41677"/>
        <c:crosses val="autoZero"/>
        <c:auto val="1"/>
        <c:lblAlgn val="ctr"/>
        <c:lblOffset val="100"/>
        <c:noMultiLvlLbl val="0"/>
      </c:catAx>
      <c:valAx>
        <c:axId val="837416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823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75A2-CDCE-4C05-8784-2435C758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A8A-AD6D-4C2F-AE28-7CD041C2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8BF-DEFC-41A4-A482-A7F2F723A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169-4658-4529-9CB5-C0E2FBC49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74B-B863-4B2A-BE99-2E10FD4D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476-8E8A-4065-8061-BB5DEDFA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0C9-6FA8-4012-A54B-14B520E3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C408-5BD7-467A-84D8-3F69189F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7380-AD99-468A-B43B-901C1701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375-A951-4C73-B8E5-554BEC9C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D0B-D42B-4A2D-BEE2-261ED0BF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BD6-4D0E-43CB-9135-CDA36543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D77F9-6EC2-4DA5-86D8-0FBC25D1A9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