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92124"/>
        <c:axId val="1589044"/>
      </c:barChart>
      <c:catAx>
        <c:axId val="16092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9044"/>
        <c:crosses val="autoZero"/>
        <c:auto val="1"/>
        <c:lblAlgn val="ctr"/>
        <c:lblOffset val="100"/>
        <c:noMultiLvlLbl val="0"/>
      </c:catAx>
      <c:valAx>
        <c:axId val="1589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92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E10-C0E7-49F3-8B0E-57661893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AD2-CD76-4B8B-88C4-ABA93689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CA7-08FB-42CD-AB22-9B40271F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FB0-084C-4C06-AB75-33EAD3A1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154-3C59-4A57-967C-50F50E3A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E47-FA26-40B8-B6C0-88BA941F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168-37A1-4B62-9A81-AD64E706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DFA-35AA-42D5-8D53-4D8C9A2F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DC8-0616-481E-ACDA-A3891694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934-8540-4E76-9AF8-31A924F4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956-BD96-4E02-9CBD-851EB18C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693-F4F3-4D5B-9484-C80361D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62489-AE9B-4A3A-9FC6-AC6B8EE821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