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26190"/>
        <c:axId val="96487237"/>
      </c:barChart>
      <c:catAx>
        <c:axId val="96426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87237"/>
        <c:crosses val="autoZero"/>
        <c:auto val="1"/>
        <c:lblAlgn val="ctr"/>
        <c:lblOffset val="100"/>
        <c:noMultiLvlLbl val="0"/>
      </c:catAx>
      <c:valAx>
        <c:axId val="96487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26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4BB-BAEB-4EF4-AE95-4C6BE984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5FC-30A3-4B4E-B4C7-8715870A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002-8339-49C4-B297-CE538887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98A-5986-4581-8D94-D3FA525F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30D-ED62-47AB-AB83-53340911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531-3926-454E-8F17-A84EE08D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55A-DDFC-4C86-AAD0-D2DA341B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D6D-8D56-4B1C-B9E8-DDBAB803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AC6-81FB-41F6-A389-E4EE8C7B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CCC-9EEF-4A71-9709-4875729D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A8D-0930-4C2C-9185-5FDC26E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C98-C322-4D4C-BA58-2F79BDF0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499B8-F2DF-4E32-A994-0A1D43C73C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