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044515"/>
        <c:axId val="51933848"/>
      </c:barChart>
      <c:catAx>
        <c:axId val="900445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933848"/>
        <c:crosses val="autoZero"/>
        <c:auto val="1"/>
        <c:lblAlgn val="ctr"/>
        <c:lblOffset val="100"/>
        <c:noMultiLvlLbl val="0"/>
      </c:catAx>
      <c:valAx>
        <c:axId val="519338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0445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B6E9-B936-458F-84F3-EA4086E7B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1817-047E-4BB9-AE03-930E462B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EAB9-AF0D-45DB-B13C-60E9C95B9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7507-1680-4844-BFDA-9C7E733C8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748A-0402-41D1-BF5B-E7A9D64E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A2AA-A880-4F8B-8399-D33821A5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298D-F392-4D57-BE7A-44E145EC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4E76-6CEC-45CB-A0F8-93945558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E16D-2077-4EEB-A539-40C09699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6561-7B61-4AE8-A148-13A1BD18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0DA9-38E2-4009-92E7-463CAB3F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3415-03F0-4E44-9DF2-BB005CEF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0F980-32A2-44D9-B16F-46062C3A4F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