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151046"/>
        <c:axId val="93627373"/>
      </c:barChart>
      <c:catAx>
        <c:axId val="581510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27373"/>
        <c:crosses val="autoZero"/>
        <c:auto val="1"/>
        <c:lblAlgn val="ctr"/>
        <c:lblOffset val="100"/>
        <c:noMultiLvlLbl val="0"/>
      </c:catAx>
      <c:valAx>
        <c:axId val="936273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510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3876-E954-4444-BF90-BD7D779A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F7F6-F424-4E5D-A936-726F1194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C86D-FA75-47FC-AD8E-4855E564E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EDB8-680E-43CF-BF47-61C9B14C1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D2AB-19E0-4EB6-BEDB-337524E4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8BB8-5D14-43EE-ABA6-9CEDED16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A37F-100A-4276-8DEF-26C5758E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7B1F-F363-466C-8577-06FE0B0A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C9A2-C8FB-4B2B-8AAE-5425CA85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534C-05DD-4E79-97FF-6C82AD81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151F-5E25-4C18-8B4C-6A917E3D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E998-E211-4E64-95AC-01C65F53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79281-DA3F-4AFF-9625-A4EBCB0034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