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47604"/>
        <c:axId val="91619653"/>
      </c:barChart>
      <c:catAx>
        <c:axId val="85947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19653"/>
        <c:crosses val="autoZero"/>
        <c:auto val="1"/>
        <c:lblAlgn val="ctr"/>
        <c:lblOffset val="100"/>
        <c:noMultiLvlLbl val="0"/>
      </c:catAx>
      <c:valAx>
        <c:axId val="91619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47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145-A572-417E-9832-84535203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517-E7BC-479F-97E6-5331EBD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C0B-82CA-48F9-AFF0-F9978D7B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CBD-0E1D-4516-8D1D-DEF46927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E04-73CE-4955-BEEE-360BDDD5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1AF-2530-4096-8DBC-BB072123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5B6-1DCB-42D3-87EC-86AE0224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909-DC5E-4876-9DD6-C3F66700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011-9534-43AB-B4E3-798F7CF6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A4D-E735-4DE2-A2B8-04CDF228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77E-A01C-4F04-AD5D-90220A4A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699-B0D2-4D99-9D2B-4092D03F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F0052-61AE-4916-8A9B-2B2539E318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