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39411"/>
        <c:axId val="36522493"/>
      </c:barChart>
      <c:catAx>
        <c:axId val="13239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22493"/>
        <c:crosses val="autoZero"/>
        <c:auto val="1"/>
        <c:lblAlgn val="ctr"/>
        <c:lblOffset val="100"/>
        <c:noMultiLvlLbl val="0"/>
      </c:catAx>
      <c:valAx>
        <c:axId val="36522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39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11D5-7FCA-45D1-A9BD-CE09395E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9BFE-5FBC-4F54-AF51-482AF95A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74E-E990-447D-8B9B-C8EC2455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EC4-9222-4119-AD89-A4FC17C3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A394-E82E-45A5-B573-F9B59AE3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38E3-ADC6-48BD-A6D8-BE9071D3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3F4-F703-49F1-8F2C-68168121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4F9-9B42-42D2-A28C-0BD320B5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E16-4B6F-44B0-AF9A-C65B60CE3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57A-92F7-4817-B955-77E22137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65D-9A8E-4568-9088-EA9C26B2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DCC4-CAD5-4BDB-8729-1D74889A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DA856-A8CA-4B38-8070-9A1D815562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