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93378"/>
        <c:axId val="8846954"/>
      </c:barChart>
      <c:catAx>
        <c:axId val="17793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6954"/>
        <c:crosses val="autoZero"/>
        <c:auto val="1"/>
        <c:lblAlgn val="ctr"/>
        <c:lblOffset val="100"/>
        <c:noMultiLvlLbl val="0"/>
      </c:catAx>
      <c:valAx>
        <c:axId val="8846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93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24C-FAD5-4788-A12C-E7559C9F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B30-ABCA-473B-9883-A3CA4A1A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8CC-1F2F-4379-A530-67744DAB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10A-4D0E-4F53-ADB0-7CDD594F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7C9-7DE0-43E1-8AD9-56E77CEF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5A3-029B-48CA-A232-5ACB72DC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784-C7CD-4810-A8A0-E5975C99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A80-A34F-4313-9490-FEA38C1D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0DD-4B3A-4095-AA8D-CD3DC29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9D5-ABFE-4ADA-AB70-2B280A71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652-3C34-422E-830F-DEF6210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3C6-A530-4CBB-BA3A-4E687E0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B1E6A-D3E3-42A0-9243-4D8040722D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