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47994"/>
        <c:axId val="72867069"/>
      </c:barChart>
      <c:catAx>
        <c:axId val="99947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67069"/>
        <c:crosses val="autoZero"/>
        <c:auto val="1"/>
        <c:lblAlgn val="ctr"/>
        <c:lblOffset val="100"/>
        <c:noMultiLvlLbl val="0"/>
      </c:catAx>
      <c:valAx>
        <c:axId val="7286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47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D57-35FB-48E1-B63A-2181C6E9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CF5-5B14-4C39-87F6-8417E251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525-71EE-4CD3-A77B-3FE3CE6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E33-4F34-48BC-B1E5-1DD3A0BC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CF8-EA07-4ADA-9B81-A043204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13F-08C0-4B89-B009-79D2C32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12F-8918-4F7D-91AC-C04E194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EDD-297F-4677-B984-8FC35C6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6DA-50F1-4918-821F-F3E4E4FE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B0C-24C9-4125-858B-06C1BCAC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4C0-2306-4FE3-966C-903E667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A01-C986-4954-AC8A-F6119569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18A08-6456-4CF5-B272-6FABE2A51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