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05100"/>
        <c:axId val="38777990"/>
      </c:barChart>
      <c:catAx>
        <c:axId val="90605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7990"/>
        <c:crosses val="autoZero"/>
        <c:auto val="1"/>
        <c:lblAlgn val="ctr"/>
        <c:lblOffset val="100"/>
        <c:noMultiLvlLbl val="0"/>
      </c:catAx>
      <c:valAx>
        <c:axId val="38777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05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794-5C23-4001-B18A-56AF9779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F1D-88C8-4EC6-8B68-D15549B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71B-F90F-4584-B426-22678305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FBB-B5D6-4270-8824-36B80A6A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95E-F958-4901-990F-3D2AB8B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705-6CD2-44EA-AAD3-0EB6AAAF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B04-7365-4A24-9B6B-8F4185E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FC9-28EB-4481-9934-BF0AE3EC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C1B-7759-4203-B029-A155BDE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3A0-B8D3-4763-84C6-CFBC03C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3EA-FC1E-430E-86E8-7B53F48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C70-B5D0-4D4C-AC8A-9C7532A1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8BA73-50B6-495D-A252-E2C8787080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