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40663"/>
        <c:axId val="49510699"/>
      </c:barChart>
      <c:catAx>
        <c:axId val="56640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10699"/>
        <c:crosses val="autoZero"/>
        <c:auto val="1"/>
        <c:lblAlgn val="ctr"/>
        <c:lblOffset val="100"/>
        <c:noMultiLvlLbl val="0"/>
      </c:catAx>
      <c:valAx>
        <c:axId val="49510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40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6C5-EDEB-4017-A717-E209B5248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441-8CD0-47D2-B8F0-05ECB9F7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260-4100-4718-AD3C-BFA3FA0C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DDA-3DC4-47B8-A0D0-E0F1F3FD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F02-3D1A-405D-A569-E4C0D0B6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302-3491-4D87-9E3B-5F9C102B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A7B-88F0-478A-9C04-FF1589DC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D91-169E-43EA-9FD1-5CCA1888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BDD-5DB7-4090-B666-97BE4C5F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54A-2509-44BB-8CAD-0422B6FA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300-7C1C-42E1-9707-ED046F8D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B46-546F-41D0-999A-5EE23C97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2B37E-AF9A-4568-9E0A-DA2667EF3C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