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229254"/>
        <c:axId val="4017679"/>
      </c:barChart>
      <c:catAx>
        <c:axId val="812292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17679"/>
        <c:crosses val="autoZero"/>
        <c:auto val="1"/>
        <c:lblAlgn val="ctr"/>
        <c:lblOffset val="100"/>
        <c:noMultiLvlLbl val="0"/>
      </c:catAx>
      <c:valAx>
        <c:axId val="40176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2292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F58B-E9C5-4FB9-8098-8F0BF0A88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C04E-AB15-45BE-9D14-45E0F96EB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E48D-17EF-40DE-A333-7F06F4E20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1C56-8DDC-4C17-8615-8F6A55064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0D07-94CC-4F71-A50D-0D4FDD7FC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6E94-1D41-4E3D-A317-A77FCE2D2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B962-61B4-46D8-8A16-D9B1A5136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2B08-EA0C-4FBB-AB95-8C25E05D1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0C22-D1DD-43B7-BD39-17748A198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EDC2-A7C4-4AF9-9566-A87FFD947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1923-3DE1-416B-B2EB-03801F013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0AD8-0CCC-493D-A097-A3AAD4171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5A60A6-72A4-4912-A2C9-D76D203689C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