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164366"/>
        <c:axId val="83944951"/>
      </c:barChart>
      <c:catAx>
        <c:axId val="441643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44951"/>
        <c:crosses val="autoZero"/>
        <c:auto val="1"/>
        <c:lblAlgn val="ctr"/>
        <c:lblOffset val="100"/>
        <c:noMultiLvlLbl val="0"/>
      </c:catAx>
      <c:valAx>
        <c:axId val="839449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643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98B7-703A-43A8-903D-0CD881E1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E5E1-EFB8-48D9-8BF8-A183FB47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E4AF-C94E-4712-8130-C33D1800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FE23-9557-446E-AF5F-98B62BE1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877B-FF40-4632-95B1-928CC9A9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D350-76CE-41F9-AF49-08649FCB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658F-AC2F-465A-8F67-555072FD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A0DC-8F0A-4EE7-8DFC-669259D1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D59D-5DA1-4ACB-A2F8-CFB13B20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98AF-3216-4A5B-8E01-C1D8A466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6328-C0DF-4F88-BBF2-11E99000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DEAF-AB3A-4517-8187-F2D1E37C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39B8F-337E-45B7-A174-0B3C027AC6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