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593095"/>
        <c:axId val="55759973"/>
      </c:barChart>
      <c:catAx>
        <c:axId val="55593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59973"/>
        <c:crosses val="autoZero"/>
        <c:auto val="1"/>
        <c:lblAlgn val="ctr"/>
        <c:lblOffset val="100"/>
        <c:noMultiLvlLbl val="0"/>
      </c:catAx>
      <c:valAx>
        <c:axId val="55759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93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02C-2128-4186-8E6C-AD2E4E46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7E7-88E3-47BA-BC8E-1ECD061E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536-7DDB-4C63-B008-DB1CF438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BE0-BC4B-4959-AD07-384AC49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DCC-41CA-4FE9-9695-BC469580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3BE-BDA1-49F4-9230-C9BFB9E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81FD-D655-469E-BCE9-A39AF5E5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8F3-2D58-406F-9087-D284C13A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E99-D29A-43CF-BDC6-53124B06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4D5-7E34-4860-8FC0-F8209B7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3D5-4869-4407-918D-8767801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EE7-D338-485F-B822-8EACCD09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1A1D5-FB3E-4C3F-B5D0-17B15B4F78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