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53413"/>
        <c:axId val="30193511"/>
      </c:barChart>
      <c:catAx>
        <c:axId val="69253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3511"/>
        <c:crosses val="autoZero"/>
        <c:auto val="1"/>
        <c:lblAlgn val="ctr"/>
        <c:lblOffset val="100"/>
        <c:noMultiLvlLbl val="0"/>
      </c:catAx>
      <c:valAx>
        <c:axId val="30193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53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D14-ED6A-42FB-8BC1-C860CAF8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B61-6EFA-4757-BD70-F9E73F0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386-2AA0-4E15-8364-E6592232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1FA-13FC-401B-9828-6381B0F5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EB8-CBA0-4B75-9ECA-0F9F8985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12C-F07D-4AE5-B9DD-90A9F67A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AD0-CDA9-43C8-8847-984B129D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8F6-5D27-4806-BD10-B2601E73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C74-97A8-414F-A911-55C1B209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166-D89A-41E7-956A-DC68DF48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DF6-2BD4-4653-9753-53225189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72A-AD9E-4897-B3EC-09DF5F48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E96C7-E486-436C-B398-FCA5F6C88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