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550027"/>
        <c:axId val="13477266"/>
      </c:barChart>
      <c:catAx>
        <c:axId val="995500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77266"/>
        <c:crosses val="autoZero"/>
        <c:auto val="1"/>
        <c:lblAlgn val="ctr"/>
        <c:lblOffset val="100"/>
        <c:noMultiLvlLbl val="0"/>
      </c:catAx>
      <c:valAx>
        <c:axId val="13477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00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BA9-72E9-463A-9DA4-3F52CB55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DE7-3143-4483-BDBE-AEC754F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900-F3A1-43E1-9BD6-8421658B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8B4-F5B4-4946-9CD6-957BC375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91C-5B70-4CF2-96D9-2D13DAC1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0F3-47B4-4BBA-8231-48F6CD7F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4F6-034F-4929-BFAA-C9919B5E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F09-B9ED-4471-B7F2-11465CB3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A11-F633-4B26-82B4-8BB2207A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C59-EA91-4876-A4FD-9EFEA2BF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BF6-CF71-4BF1-AB71-D339A04F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B473-5859-4526-BA52-704BCA82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1D683-A755-4E82-B126-43F8862B9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