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24744"/>
        <c:axId val="55558069"/>
      </c:barChart>
      <c:catAx>
        <c:axId val="99524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58069"/>
        <c:crosses val="autoZero"/>
        <c:auto val="1"/>
        <c:lblAlgn val="ctr"/>
        <c:lblOffset val="100"/>
        <c:noMultiLvlLbl val="0"/>
      </c:catAx>
      <c:valAx>
        <c:axId val="55558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24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453-6555-40DC-A448-E9566860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ED7-D3AE-44F4-869B-7C12F33E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A1E-F7C5-4B6A-A5EE-2BD08CBA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820-2048-4567-82D0-3596D662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8E3-F900-4AE6-80C2-4D14FCB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9DE-6B88-4CEF-91EF-5022509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F1A-4A26-4DD3-BB13-BC0E4D02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BED-CCDF-4845-B695-068FAA0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D56-F12D-4C97-B4EC-7A2D29BF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D07-5F45-46EE-B2ED-B4221C47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099-67A2-428D-A7E8-7CBE74F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E19-1DCB-4939-8353-22AE666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1985A-10EA-4528-A50E-3153E102C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