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58619"/>
        <c:axId val="35053294"/>
      </c:barChart>
      <c:catAx>
        <c:axId val="92558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53294"/>
        <c:crosses val="autoZero"/>
        <c:auto val="1"/>
        <c:lblAlgn val="ctr"/>
        <c:lblOffset val="100"/>
        <c:noMultiLvlLbl val="0"/>
      </c:catAx>
      <c:valAx>
        <c:axId val="35053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58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C07-4EB1-44D8-8561-343E5A37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9FD-DDF2-4551-A5C8-CA3D31F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F7E-53C9-4E60-8076-DEFA7C10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F8B-CDDC-48F7-92BA-090C1B4A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7D2-212C-4BB7-9D99-72D56E8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EE3-C4C1-4731-9595-EFE13240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D55-256C-4CAA-8205-ECA2047F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408-ADB9-4F1E-9EFE-02D4F2C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EAA-2798-4448-A344-4E5A979A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2C4-7395-41B7-BD2A-637ADC36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8A2-77C2-4F97-8EFC-831B1B5B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F66-ED53-4233-B667-364E498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A11F9-02E4-48CE-9B9D-33E5F463C5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