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570929"/>
        <c:axId val="58303390"/>
      </c:barChart>
      <c:catAx>
        <c:axId val="905709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303390"/>
        <c:crosses val="autoZero"/>
        <c:auto val="1"/>
        <c:lblAlgn val="ctr"/>
        <c:lblOffset val="100"/>
        <c:noMultiLvlLbl val="0"/>
      </c:catAx>
      <c:valAx>
        <c:axId val="583033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5709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79E1-D85F-492A-B123-17A72B291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58C8-96DB-4D96-BA24-F0A257884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A2A4-67B4-43F0-BC84-B0F86D17D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2058-511A-4C16-8A85-108A29F28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CBF6-D587-4F27-8A1A-A8AED9447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7F39-DFE8-4BA0-8DB1-F8A290F7E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77FB-4692-42D6-827C-B9EBAB32B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57D5-2ADF-4B2E-832A-B8F72BEE7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7EA7-58E5-415D-920F-9F2216E6F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F704-B8B4-4E50-869D-9A4D48FDD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94B5-3CBA-42E7-BA1C-9A56141D0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4C68-46FF-4B89-9989-680A93F54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F5B41E-EACD-4270-8729-163BAE5A799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