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94852"/>
        <c:axId val="23159528"/>
      </c:barChart>
      <c:catAx>
        <c:axId val="59194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59528"/>
        <c:crosses val="autoZero"/>
        <c:auto val="1"/>
        <c:lblAlgn val="ctr"/>
        <c:lblOffset val="100"/>
        <c:noMultiLvlLbl val="0"/>
      </c:catAx>
      <c:valAx>
        <c:axId val="23159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94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69B-7407-4351-8589-856AB2DE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93B-08BB-4399-9CB9-3CB44D5E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E9C-F610-41E9-9302-DFB978EC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721-0F2C-4B1F-9069-523866D4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350-3669-4F47-924C-F42E337D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252-49C0-427B-BC17-F0AD53BB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66C-EA75-4373-8370-26F2AFD1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221-A3B5-4AEC-B358-935E570C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3D0-7FB7-487D-BC03-22544F57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182-EB39-4F4D-B6F2-E2F5C0AF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243-5D25-426C-8CAA-C0890BB3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0B4-11CE-460A-A437-ACE4DC00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4485D-C9DA-4A7D-AF32-08B71D3F01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