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00133"/>
        <c:axId val="5016053"/>
      </c:barChart>
      <c:catAx>
        <c:axId val="91000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6053"/>
        <c:crosses val="autoZero"/>
        <c:auto val="1"/>
        <c:lblAlgn val="ctr"/>
        <c:lblOffset val="100"/>
        <c:noMultiLvlLbl val="0"/>
      </c:catAx>
      <c:valAx>
        <c:axId val="5016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00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D7C-9A53-4916-856A-4A5AF646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828-D5D1-4F9A-A0C2-2C850D33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E51-9511-462A-9180-C02DE07A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92F-C074-4A97-A6AE-3F4020FD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E5F-E396-4918-A9FE-9942CA95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3DE-D1AC-403F-B212-32CE7DEC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B5B-0377-4633-9800-D1C879EC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101-3A2F-4F18-AFA4-77C87770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ACC-951E-4C8D-8BD0-38FC736D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F75-A772-442A-9EE5-5A08BC4B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CB3-ECE2-4ED5-A615-A6E216EF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499-B524-48E7-9E23-87F2FFFE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68184-6118-4F2E-9480-6734E89212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