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061578"/>
        <c:axId val="24546062"/>
      </c:barChart>
      <c:catAx>
        <c:axId val="110615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46062"/>
        <c:crosses val="autoZero"/>
        <c:auto val="1"/>
        <c:lblAlgn val="ctr"/>
        <c:lblOffset val="100"/>
        <c:noMultiLvlLbl val="0"/>
      </c:catAx>
      <c:valAx>
        <c:axId val="245460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615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80D7-BB41-440F-8FEA-F4AEB9E67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2164-C7AD-45DF-8ED1-5B9F04C5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F350-23CA-4675-A10F-F28501D19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5BCE-7FF1-44ED-8BCC-8BED6D99B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E0C4-9B06-44C4-9ED3-94CE2D5A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623D-CCCE-4520-B82E-E5904559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D2C5-7883-4200-8560-C0639B04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BB32-8577-432F-BF1E-380397D2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CF50-3464-4F54-9289-C78D4F83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35F3-40D3-4198-90CA-68AF7688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1038-1B94-49B7-803E-7102BD5C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7F3A-0EA8-4D6E-93EB-CE3627A2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028B8-B2F0-4692-819D-1A9BEB4A69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