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00827"/>
        <c:axId val="12626098"/>
      </c:barChart>
      <c:catAx>
        <c:axId val="76500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6098"/>
        <c:crosses val="autoZero"/>
        <c:auto val="1"/>
        <c:lblAlgn val="ctr"/>
        <c:lblOffset val="100"/>
        <c:noMultiLvlLbl val="0"/>
      </c:catAx>
      <c:valAx>
        <c:axId val="12626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00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E37-E0E6-4154-B721-DFC88183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D9F-18BA-44DE-BD5C-45A6EEF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357-6E08-4915-9742-02E17623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697-CD18-4322-B491-9418F956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7AC-E3F9-4DAC-AEC4-1C7E541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ED4-770A-4D4A-8A57-92BCB8B8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A48-EC21-4DBB-805E-A6F8A3A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49C-4415-487C-9D91-807A6609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71A-696B-4D2C-B59D-FCF1BF0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604-9F65-4EDC-BF24-0FEEE4E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556-8DAF-4B37-B8B6-F0666773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4AC-C78D-4CE3-9086-97BB1B7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76993-BE08-4125-A019-F25E701D31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