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197067"/>
        <c:axId val="89463841"/>
      </c:barChart>
      <c:catAx>
        <c:axId val="60197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63841"/>
        <c:crosses val="autoZero"/>
        <c:auto val="1"/>
        <c:lblAlgn val="ctr"/>
        <c:lblOffset val="100"/>
        <c:noMultiLvlLbl val="0"/>
      </c:catAx>
      <c:valAx>
        <c:axId val="89463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97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8629-837F-4891-A224-3170AF58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3AB-AA31-4617-A173-66D77A33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915B-57D3-45A6-AD18-0D8E5045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A16-5AD2-4BFA-BA8B-605E2352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FA7-180D-4D78-B15C-2C752250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2F1-414F-4F06-BFE7-C2DAC392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72C5-B5D1-4C82-81A7-7F1FE4C1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DFA2-37F2-4FEA-8515-A9F9DA42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89D-E0E8-428B-A815-B469FA6E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055-8F6C-4ADC-887D-719208B3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DE3E-8E51-4D88-BCC7-00773B29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58A1-A084-4E42-AB5A-6F5E485C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A0689-1A17-466C-8471-83FF29E1B3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