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670743"/>
        <c:axId val="91181122"/>
      </c:barChart>
      <c:catAx>
        <c:axId val="326707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81122"/>
        <c:crosses val="autoZero"/>
        <c:auto val="1"/>
        <c:lblAlgn val="ctr"/>
        <c:lblOffset val="100"/>
        <c:noMultiLvlLbl val="0"/>
      </c:catAx>
      <c:valAx>
        <c:axId val="911811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707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118F-4D95-4037-A568-AEFE1924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7D2-8650-4123-BF03-E1C7B9BD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65A0-0FC0-4F78-BF5F-B53C0373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1DF0-7D11-4E6C-B6D1-75A14E22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43D-2C77-4C46-99DF-14B78417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15E4-F543-44CE-8AFF-29388578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CDAE-5A7A-49A4-B34D-5F8BB562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B1F8-6E4C-44DE-AD34-DB9A3281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1CBA-A016-46B9-9707-DB2D6A37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428C-A058-47D0-AF53-8135C28F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8B81-ACAA-4253-87D8-55F08910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E1A2-10DC-4FFA-8B70-B04C3044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16DB5-B030-48C4-86BA-19194EA28B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