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8484"/>
        <c:axId val="14526513"/>
      </c:barChart>
      <c:catAx>
        <c:axId val="8878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26513"/>
        <c:crosses val="autoZero"/>
        <c:auto val="1"/>
        <c:lblAlgn val="ctr"/>
        <c:lblOffset val="100"/>
        <c:noMultiLvlLbl val="0"/>
      </c:catAx>
      <c:valAx>
        <c:axId val="14526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8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BF2-CAA3-4FEF-8E05-59DC1546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E66-A5E2-40AC-8A03-33BF44D1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36F-5F5C-490C-BD4A-C56BB4C6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B43-8594-44A0-B0FF-ACDC00B2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BF8-7456-4CD9-966C-9E9F0F8C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6B5-1323-4ECE-904B-576A575D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215-ABD6-4984-894F-219281F9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6F5-F632-49A1-8457-A3E266F4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0F2-9867-40AB-8EED-CE40FF9F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C9F-3998-4450-B143-5BDD491C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22A-7062-460B-98ED-C6B5A0AD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B39-392B-41E3-ACC1-B7EA5D0F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96F8F-CEB9-4F07-BB7C-49AA57A769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