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25208"/>
        <c:axId val="64776419"/>
      </c:barChart>
      <c:catAx>
        <c:axId val="84925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6419"/>
        <c:crosses val="autoZero"/>
        <c:auto val="1"/>
        <c:lblAlgn val="ctr"/>
        <c:lblOffset val="100"/>
        <c:noMultiLvlLbl val="0"/>
      </c:catAx>
      <c:valAx>
        <c:axId val="64776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25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4B3-9442-41E5-95D3-9E68B097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C25-0FD6-4BFA-8BA0-BE2302E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D78-1032-42BE-916E-48883050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236-BD2D-4BD5-8FBF-69CB7A86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6D1-5597-48BF-957E-CE3BE2F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38F-4757-4437-8759-FAB8D70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C53-BD6D-41FE-83B8-13DD4451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907-3B53-4CCA-A908-C39A003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1C0-3F96-4205-A27A-B3FE128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AF9-74E2-4363-B263-A8ABA3B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5C6-5AFE-4E2E-A623-DFD3BE1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8E7-5BFA-46E3-9E77-CAF2DAA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00DA5-393F-4AFF-A9EB-83B596861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