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45885"/>
        <c:axId val="43512584"/>
      </c:barChart>
      <c:catAx>
        <c:axId val="5574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2584"/>
        <c:crosses val="autoZero"/>
        <c:auto val="1"/>
        <c:lblAlgn val="ctr"/>
        <c:lblOffset val="100"/>
        <c:noMultiLvlLbl val="0"/>
      </c:catAx>
      <c:valAx>
        <c:axId val="43512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4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96C-B588-4C0B-974E-F98CEA1A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B57-79FA-481F-B681-1693404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1E-498F-423F-B081-5C4714CF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D50-AB94-444C-8158-B9BEABB0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D7C-9D6B-496C-8872-DD02B014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52D-63E1-445C-8426-F7A888AA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F2B-B13F-4F3C-AF7F-F03898D3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2AD-66E5-4477-91F1-F865D96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75A-68A3-4F1E-81CB-D3D2C8A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382-1288-4213-9988-387747D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9BF-4B2D-4261-8207-3317506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D00-7494-4529-97B0-B264D179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66058-080D-4AC8-951E-30929CEBC6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